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C9E-96A7-4BA3-8100-D547806F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087-6FA6-4113-ADE8-38910885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D11-5B1A-4FE8-A478-FCABE02B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92A-A3E4-4A7A-9A74-56ACD47C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7ED-C7EE-4434-8CD6-70C8EC2B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E39-02BC-47FF-8BA4-3CCD6B38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E39-AA76-4741-A1C9-0859C9F1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BD0-384F-4228-9562-666FD202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2BB-A6BF-4D40-805C-8AB1EFEC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8020-ABD6-4488-8780-36BE9552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5D9-5908-4BF6-8DEC-C8003FE1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0BE-CB0A-4FC4-8946-1B18CC2C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ADE5-55D0-4F25-8FE9-580C47A0367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00080" y="239760"/>
            <a:ext cx="6904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WEL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324080"/>
            <a:ext cx="82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d declension words, grouped into their rough patter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857160" y="1857240"/>
            <a:ext cx="3786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νηρ, ἀνδρος, ὁ (2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τηρ, ἀστερος, ὁ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τηρ, σωτηρος, ὁ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ἰων, αἰωνος, ὁ (1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ων, ἀρχοντος, ὁ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ιμων, Σιμωνος, ὁ (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υνη, γυναικος, ἡ (2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214960" y="2014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 (male), hus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214960" y="2643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214960" y="3257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214960" y="38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e (long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214960" y="4481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ler,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214960" y="5114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214960" y="5729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man, 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857160" y="1285920"/>
            <a:ext cx="400068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λπις, ἐλπιδος, ἡ (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υξ, νυκτος, ἡ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υς, ποδος, ὁ (9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αρξ, σαρκος, ἡ (1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αρις, χαριτος, ἡ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ειρ, χειρος, ἡ (1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υγατηρ, θυγατρος, ἡ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ητηρ, μητρος, ἡ (8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286240" y="144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286240" y="20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286240" y="2685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286240" y="3300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286240" y="3909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286240" y="4543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286240" y="5157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286240" y="5767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857160" y="1285920"/>
            <a:ext cx="442908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τηρ, πατρος, ἡ (41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υρ, πυρος, το (7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δωρ, ὑδατος, το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ως, φωτος, το (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ἱμα, αἱματος, το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λημα, θεληματος, το (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νομα, ὀνοματος (2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νευμα, πνευματος, το (37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5572080" y="144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ther, anc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572080" y="20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572080" y="2685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572080" y="3300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572080" y="3909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572080" y="4543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572080" y="5157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572080" y="5767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irit,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857160" y="1434960"/>
            <a:ext cx="44290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ῥημα, ῥηματος, το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τομα, στοματος, το (7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μα, σωματος, το (1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5572080" y="1592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, s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572080" y="2220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572080" y="283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572080" y="4457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r,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5572080" y="5067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500040" y="36813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857160" y="4287960"/>
            <a:ext cx="32148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ιζων (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ειων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4843440" y="2347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one,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4843440" y="2957400"/>
            <a:ext cx="380052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? which?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ί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also mean wh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00040" y="15717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1857240" y="2185920"/>
            <a:ext cx="321480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ς τι (5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ίς τί (5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στις (1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σπερ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857840" y="4195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857840" y="4824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0:44:09Z</dcterms:created>
  <dc:creator>Sarah</dc:creator>
  <dc:description/>
  <dc:language>en-US</dc:language>
  <cp:lastModifiedBy>Sarah</cp:lastModifiedBy>
  <dcterms:modified xsi:type="dcterms:W3CDTF">2009-07-09T16:27:26Z</dcterms:modified>
  <cp:revision>31</cp:revision>
  <dc:subject/>
  <dc:title>Slide 1</dc:title>
</cp:coreProperties>
</file>